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D39-C5D5-48DE-81FC-EDC79A1F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218-377A-441E-8C40-AE44C4C5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BD0-5240-4C89-A57F-F0714C4F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9C0-CC6B-44CA-90FC-F11C6CC8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899-9432-41CE-8E43-3E825F82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98C-EC66-422F-B65E-54A771CC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AA2-E714-4568-A1E8-FDAC80D8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ECD-46D4-42D9-AE1A-8DC04557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125-4B15-47C0-B6A8-653DFA02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8CC-E09A-4D0B-91FC-E49848F3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FC6-76E0-4F02-8D34-A5DFBBA2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E4E-C5ED-4615-ACB1-3B7F7C54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00E4-32B4-4109-BE5E-C3D58B070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WEEK 1 INTRODU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511200" y="685800"/>
            <a:ext cx="11376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"/>
          <p:cNvPicPr/>
          <p:nvPr/>
        </p:nvPicPr>
        <p:blipFill>
          <a:blip r:embed="rId1"/>
          <a:stretch/>
        </p:blipFill>
        <p:spPr>
          <a:xfrm>
            <a:off x="903240" y="646200"/>
            <a:ext cx="103856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93840" y="0"/>
            <a:ext cx="1139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177840"/>
            <a:ext cx="121921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1619280" y="714240"/>
            <a:ext cx="895356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88920"/>
            <a:ext cx="121921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203720" y="0"/>
            <a:ext cx="375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231920" y="0"/>
            <a:ext cx="972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"/>
          <p:cNvPicPr/>
          <p:nvPr/>
        </p:nvPicPr>
        <p:blipFill>
          <a:blip r:embed="rId1"/>
          <a:stretch/>
        </p:blipFill>
        <p:spPr>
          <a:xfrm>
            <a:off x="3903840" y="1440"/>
            <a:ext cx="37908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3" descr=""/>
          <p:cNvPicPr/>
          <p:nvPr/>
        </p:nvPicPr>
        <p:blipFill>
          <a:blip r:embed="rId1"/>
          <a:stretch/>
        </p:blipFill>
        <p:spPr>
          <a:xfrm>
            <a:off x="1008000" y="579600"/>
            <a:ext cx="10161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3520"/>
            <a:ext cx="121921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903240" y="646200"/>
            <a:ext cx="103856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1257480"/>
            <a:ext cx="1219212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177840"/>
            <a:ext cx="121921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838080" y="1500120"/>
            <a:ext cx="105156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14:29:45Z</dcterms:created>
  <dc:creator>Microsoft Office User</dc:creator>
  <dc:description/>
  <dc:language>en-US</dc:language>
  <cp:lastModifiedBy>Microsoft Office User</cp:lastModifiedBy>
  <dcterms:modified xsi:type="dcterms:W3CDTF">2016-05-09T17:24:35Z</dcterms:modified>
  <cp:revision>4</cp:revision>
  <dc:subject/>
  <dc:title>WEEK 1 INTRODUCTION</dc:title>
</cp:coreProperties>
</file>